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79E6-8639-4F0B-887D-00ECF3D4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8B0-A0D8-4C22-B12F-3E38480D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854-9176-4452-A4CE-628B297A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E92-B33B-4EF1-8515-2D8979C1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8729-C730-489F-9C02-2BA5381E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F887-B199-4772-B7D9-4A7FBD2A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CCF-C3EA-484E-B05C-5AD3A9A3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4BC-9246-4DAB-A4C9-CC62A683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AF0-A44F-4927-A506-8743D89B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B67B-B112-459D-B4D9-D23EAEF7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454-B185-4DB1-9351-4FBAF820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78EF-137B-487F-8D1D-EAA62D85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CD46-BB06-4D87-84FC-59E3E62D1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28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86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916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نفال في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دينة المن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زمن نزول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ب غزوة 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75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50133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أنفا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ذكرها في بداية السو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6012000" y="435456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نف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227160" y="5629320"/>
            <a:ext cx="8665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معظم الآيات نزلت بعد معركة بدر الكبرى ولها علاقة ب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غزوة بدر وفضل الله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19"/>
          <p:cNvSpPr/>
          <p:nvPr/>
        </p:nvSpPr>
        <p:spPr>
          <a:xfrm>
            <a:off x="8820000" y="1662120"/>
            <a:ext cx="0" cy="392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أحكام الشرعية مرجعها إلى الله ورسوله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طاعة الله ورسوله </a:t>
            </a:r>
            <a:r>
              <a:rPr b="1" lang="en-US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خطورة معصيتهم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خطورة المعاص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إعداد القو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له لا يغير ما بهم حتى يغيروا ما بأنفس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واز الميل إلى السلم إذا طلب العدو ذل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غنائم والأسر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ؤمنين أمة واح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60036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